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E382-3B3E-4FF6-A122-41E4EAAF976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6EC2-93B7-40D7-A105-32943DB73754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6932-8585-436D-820F-D7601779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0875-1472-4011-BE14-1DC92831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96AC-69D8-42C4-B54F-5E7A6E748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5517-1C2A-4BD5-973F-636CD035E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C305-AFCB-4887-B22B-FF3BBACE3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C4A9-926F-40D3-B222-E50F918C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2283-D804-4229-A98E-953304CE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654F-3446-4741-ACFD-2C55947B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A72F-89F3-4A8C-97B2-F0342350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D131-2364-4D83-99C3-55C7296B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96D0-4EAF-4088-A32D-0327C10D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26FC-85D4-4C15-A346-A546812B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9590-3508-4976-A7D0-63D6CCB0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54C7-3A19-488C-9764-155C6722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6F78-3B82-4675-AC7A-52427672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FDAD-8648-490E-B266-0AD8BA62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1CFE-1495-4862-9BE4-D9DF59894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6B006-8D89-4F0F-A81E-A23569762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40F13-6B25-4EAF-AB95-9191DC3C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D76AC-7BD7-4D1E-9742-20154C04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0E9D4-7A82-4E9D-AC52-ED6CF848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C9022-FC6C-4F24-B6AC-48B24A54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F7E3-21DC-4B8F-9AAE-AE1F30D0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26D0A-8F19-4CF8-A17F-62B77E52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3B5E3-57FD-423F-816E-5C070B2E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9C1BB-77B2-4B27-BEFD-852DC473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0921C-6DD4-4039-BE68-1B5E1F50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2EAB6-FCAB-4FD1-A9DD-D07AEFCA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3DEF6-37C1-47BD-A1EC-AF02DC09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47621-8C09-49DC-A0A7-C228B1A1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A75FD-6ADC-42E1-8428-128C8240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AC13C-8DE8-4CD1-B0E6-C85B2E54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ADE6D-DE56-4D87-BFC2-0FBACEC1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93F0-17B7-4B38-A833-E05F4024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60ED4-D531-426B-8CA9-90C5BD75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D052A-7EC2-4FE1-9047-D157441D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A06C5-736D-4609-A30F-3D67D884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49F65-8EF9-4D39-AB73-E257DA65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BE943-400C-4528-A411-C5CBBF35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F54D7-C352-4BA5-B18D-E04481E1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2A61B-529D-4F1B-A0A3-462F17F5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46C6D-F0B1-4AC1-9958-3376AF570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035D6-B706-4ECE-8148-51299CAF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6B46B-F53D-4510-A943-B8F81945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5E34-A09A-4191-8515-EFD11F0E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4393C-D83B-476D-BEBF-8C6EE1CE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1F2E3-1CE4-41E5-8640-8CFA9F38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C7FE4-A0BA-4298-8FDF-4337269A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A5A88-3391-4B21-88A7-784DD1D3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5A740-FC64-465D-B7A6-B229F453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98B8F-A3CD-40A6-B69E-19369C07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2C50F-9EE5-4E10-B5BC-843CFE1D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248D8-BD65-46BB-88D9-49437E71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85599-E7CC-49A8-B936-A06127CF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320DB-50CB-4D32-8926-BD6204734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88DE-FE92-4AE1-8BD5-919F7242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41AD1-3A6D-4FE9-858C-934F08ACE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89A43-580C-4791-9A5C-56489377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3EBD7-5890-4A10-9058-5ADAF44A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9BE38-F32A-4025-9B92-FA8B4087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84D11-D3EA-4A3A-852B-4A6AC1BC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A1A02-666A-42DE-B139-EE62CD83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DDCE3-8DDC-48CB-A6E8-8C464765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A2EB2-D268-4913-92E6-33B83171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979AF-54CB-4164-9EFB-060F5CB4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5EE0A-BCD2-403C-9E57-40C3A437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E778-C033-4955-8AEE-50303718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37A2D-3CFA-42F1-A8BD-121C3A36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C6284-6359-490E-AD01-7AA909AB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25F9D-5E65-4367-AC2D-DE1067D9B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5781-0CE8-44BA-B07C-7AAE2CD4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343B-D08B-4650-8BD9-FBC97753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6849-146D-4BD1-B93B-82637CFBF88F}" type="slidenum">
              <a:rPr b="0" lang="en-A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5305-59DC-4D64-B3B2-3A78BAB44A73}" type="slidenum">
              <a:rPr b="0" lang="en-A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4453-E691-47BC-96EC-070ED70101C9}" type="slidenum">
              <a:rPr b="0" lang="en-A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41EC-0893-4888-B4CC-077210C6E658}" type="slidenum">
              <a:rPr b="0" lang="en-A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3714-0CF7-44D9-AFFE-95381CB1A594}" type="slidenum">
              <a:rPr b="0" lang="en-A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E2F5-4441-4301-89DC-0CDD0EEF6D46}" type="slidenum">
              <a:rPr b="0" lang="en-A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0" y="0"/>
            <a:ext cx="8501040" cy="65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When you go to Iceland you will be entertained and amazed b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Geyser water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Gullfoss waterfall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The Northern ligh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Icelandic troll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Reykjavik the capital city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The blue lagoon open all yea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Thingvellir (national park.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Vatnajokull glaci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Volcano Hekla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And Volcano hike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643440" y="-360"/>
            <a:ext cx="2500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600" spc="-1" strike="noStrike">
                <a:solidFill>
                  <a:srgbClr val="ff0000"/>
                </a:solidFill>
                <a:latin typeface="Franklin Gothic Book"/>
              </a:rPr>
              <a:t>map</a:t>
            </a:r>
            <a:endParaRPr b="0" lang="en-US" sz="8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9" name="Content Placeholder 3" descr="map_of_iceland[1]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600" spc="-1" strike="noStrike">
                <a:solidFill>
                  <a:srgbClr val="ffffff"/>
                </a:solidFill>
                <a:latin typeface="Franklin Gothic Book"/>
              </a:rPr>
              <a:t>The capital city Reykjavik.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The capital city Reykjavik  has a population of 199,000 with nearby communities. Reykjavik is the country’s capital and the heart of the current Icelandic societ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The  old town centre contains some charming buildings dating back to the 18</a:t>
            </a:r>
            <a:r>
              <a:rPr b="1" lang="en-AU" sz="3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 and 19</a:t>
            </a:r>
            <a:r>
              <a:rPr b="1" lang="en-AU" sz="3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 centuries presenting good examples of the histor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600" spc="-1" strike="noStrike">
                <a:solidFill>
                  <a:srgbClr val="ffffff"/>
                </a:solidFill>
                <a:latin typeface="Franklin Gothic Book"/>
              </a:rPr>
              <a:t>Interesting facts 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About7250km is covered with glacier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The average temperature is 5 c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Iceland has NO army, navy or air for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Their economy is heavily dependent upon fish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Life expectancy is -81 for women and 76 for men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600" spc="-1" strike="noStrike">
                <a:solidFill>
                  <a:srgbClr val="ffffff"/>
                </a:solidFill>
                <a:latin typeface="Franklin Gothic Book"/>
              </a:rPr>
              <a:t>fligh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Leave Melbourne on Saturday 29.8. 09 to London. Time  Leave 3:30 pm Arrive at 5:25. Price: $42050 or 85000 eur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Leave London to Reykjavik on Tuesday 1.9 at 11:30am and arrive at 1:10p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Price: $340 or 975 eur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600" spc="-1" strike="noStrike">
                <a:solidFill>
                  <a:srgbClr val="ffffff"/>
                </a:solidFill>
                <a:latin typeface="Franklin Gothic Book"/>
              </a:rPr>
              <a:t>Accommodation 1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Reykjavik 4 you apartmen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Close to the main shop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Brand new luxury apartmen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And FREE PARKING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Price: $250 per nigh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600" spc="-1" strike="noStrike">
                <a:solidFill>
                  <a:srgbClr val="ffffff"/>
                </a:solidFill>
                <a:latin typeface="Franklin Gothic Book"/>
              </a:rPr>
              <a:t>Accommodation 2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Hotel Or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ddress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Breidumork 1c 810 Reykjavi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tel Ork Is a very pretty place to stay the is in a good position to see the northern light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tel Ork is located in natural surroundings, on the outskirts of the villag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ROOM AMENIT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* 85 spacious and well furnished twin rooms offer guests private bath, mini-bar, telephone and a TV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ice: $650 per night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600" spc="-1" strike="noStrike">
                <a:solidFill>
                  <a:srgbClr val="ffffff"/>
                </a:solidFill>
                <a:latin typeface="Franklin Gothic Book"/>
              </a:rPr>
              <a:t>Accommodation 3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00040" y="107136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otel Hilton 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KING SUI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poil yourself in this spacious 60m²/646sq.ft suite with Executive Lounge access and views of Reykjavik Bay and Mount Esja. The elegant suite in cool, calm tones has 1 king bed and separate living room. Work in comfort at the desk, surf the web with high-speed internet access or recline on the sofa to watch DVD's on the TV. Sleeps 2 adul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ice $1,000 per nigh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600" spc="-1" strike="noStrike">
                <a:solidFill>
                  <a:srgbClr val="ffffff"/>
                </a:solidFill>
                <a:latin typeface="Franklin Gothic Book"/>
              </a:rPr>
              <a:t>Festival 1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 June - Sailors Day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’s the only day when every ship in Iceland is in harbor, and all the sailors have a day off. Boats and ships of all sizes come into port carrying sailors eager to try their hands at strongman competitions and rowing competitions between ship crews and companie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600" spc="-1" strike="noStrike">
                <a:solidFill>
                  <a:srgbClr val="ffffff"/>
                </a:solidFill>
                <a:latin typeface="Franklin Gothic Book"/>
              </a:rPr>
              <a:t>Festival 2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August - Unglist – Young Art Festiv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glist, the art festival of young people, has been a yearly event  in Reykjavik since 1992. The program consists of music, design, fashion, photography, paintings and theatre just to mention a few. Young art’s main purpose is to give all culture's dark corners a chance to shine and get their art into the public spotligh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04:47:21Z</dcterms:created>
  <dc:creator>Education</dc:creator>
  <dc:description/>
  <dc:language>en-US</dc:language>
  <cp:lastModifiedBy>Education</cp:lastModifiedBy>
  <dcterms:modified xsi:type="dcterms:W3CDTF">2009-08-27T08:38:29Z</dcterms:modified>
  <cp:revision>33</cp:revision>
  <dc:subject/>
  <dc:title>Slide 1</dc:title>
</cp:coreProperties>
</file>